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B11-1018-49B2-8346-B361C1FB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125-0CD0-4EF1-8DDC-0266DEB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9A7-8F33-48FC-B1AB-A174529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803-4719-47EE-8379-8C1967E6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5896-46B7-4447-99AB-0B957ADD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5AF9-41B0-4087-B353-6B53C97B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D4D-1F4C-4FF2-AE63-DD5AC7D5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A7E4-DC7D-4D50-B24D-A2C0AD9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9838-E9A4-4AF6-AD91-92FEF8BC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6859-5408-4774-89EC-BDD7C7D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9A4-7C5B-4D00-86DE-B247323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C54-B33F-4819-809C-0A6BF4C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B00-AB93-4F69-860C-81FDC55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566-8F67-40E6-BCB9-1BB9421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D9D4-E9D6-46E1-B07D-82F352C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B89C-A43A-449B-8B1E-111DFF6F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123-9AAE-42D6-B43B-0447634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ED434-C1E5-47DB-87A3-055269B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20944-E751-4348-A62B-7BEE19F6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0978-8EC9-4FC8-9F30-79E5BA4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DC541-2340-4D1C-8B21-331E686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B4AF4-581C-4397-9E59-A86E8046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565-55C3-48C2-8FE4-E20F7CA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5CEE6-4D5B-4C55-BDE5-FE7BCF5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033A1-78B9-4D34-B69D-F29B0B9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6F9D3-E459-4CBD-9511-63E7C5D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42846-9E81-4EB1-B390-5CB362C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387D2-B815-44B6-99F7-E637F649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5551C-A205-4267-B474-72C110B1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8693A-A32B-477F-8C47-D713727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9B61-9AD6-461E-A38C-157CD636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7916-F3A1-4186-ACD5-2F88D6D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C307-76DF-479C-B770-7E70A11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F45-A724-4302-BF6C-3A39D158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44B1-37EC-4537-9DDE-48D3986C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8FA3-945F-4EFA-B5B0-8C4D2B30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2A26-7090-401E-AC32-4338E6D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6247-4B79-4088-927B-E8702F6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4E2A-964D-4396-ACC8-6864C92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C0F2-F6D1-45B2-87C7-FBFEBFA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4E7A-514C-4272-9D01-578D5CB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34860-8F24-4E55-86DB-EF672C66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68BD-6C23-4008-9C6A-843F029D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179-9D57-4682-B638-B065A46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8AE-CD84-4641-BF9D-2C254F6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645-CF70-4D02-AEB7-B8ADDB8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FF4-FA43-47A1-BB3A-0CBDDDA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7CC-FBDA-45CC-82B2-A23BDF3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775-66D1-461F-A4BF-95A2648D16A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ECE-7661-4983-B643-607ABD8D094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A96-E7CF-4C08-847C-B706523876FB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EE1C-EBD0-45E7-B643-15A40F94B597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311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Objętość prostopadłościanu.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Jednostki objętośc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6" descr="rectangular_prism_tall"/>
          <p:cNvPicPr/>
          <p:nvPr/>
        </p:nvPicPr>
        <p:blipFill>
          <a:blip r:embed="rId1"/>
          <a:stretch/>
        </p:blipFill>
        <p:spPr>
          <a:xfrm>
            <a:off x="611280" y="4508640"/>
            <a:ext cx="14904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2"/>
          <p:cNvGrpSpPr/>
          <p:nvPr/>
        </p:nvGrpSpPr>
        <p:grpSpPr>
          <a:xfrm>
            <a:off x="7885080" y="4797360"/>
            <a:ext cx="1007640" cy="1656000"/>
            <a:chOff x="7885080" y="4797360"/>
            <a:chExt cx="1007640" cy="1656000"/>
          </a:xfrm>
        </p:grpSpPr>
        <p:pic>
          <p:nvPicPr>
            <p:cNvPr id="217" name="Picture 25" descr="Rectangular prism"/>
            <p:cNvPicPr/>
            <p:nvPr/>
          </p:nvPicPr>
          <p:blipFill>
            <a:blip r:embed="rId2"/>
            <a:srcRect l="33273" t="0" r="27468" b="22271"/>
            <a:stretch/>
          </p:blipFill>
          <p:spPr>
            <a:xfrm>
              <a:off x="7885080" y="479736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51"/>
            <p:cNvSpPr/>
            <p:nvPr/>
          </p:nvSpPr>
          <p:spPr>
            <a:xfrm>
              <a:off x="8748360" y="623736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WordArt 53"/>
          <p:cNvSpPr txBox="1"/>
          <p:nvPr/>
        </p:nvSpPr>
        <p:spPr>
          <a:xfrm>
            <a:off x="3780000" y="4005360"/>
            <a:ext cx="151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lit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4"/>
          <p:cNvSpPr txBox="1"/>
          <p:nvPr/>
        </p:nvSpPr>
        <p:spPr>
          <a:xfrm>
            <a:off x="4284720" y="537372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m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5"/>
          <p:cNvSpPr txBox="1"/>
          <p:nvPr/>
        </p:nvSpPr>
        <p:spPr>
          <a:xfrm>
            <a:off x="5580000" y="4508640"/>
            <a:ext cx="14400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h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6"/>
          <p:cNvSpPr txBox="1"/>
          <p:nvPr/>
        </p:nvSpPr>
        <p:spPr>
          <a:xfrm>
            <a:off x="2124000" y="5084640"/>
            <a:ext cx="71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7"/>
          <p:cNvSpPr txBox="1"/>
          <p:nvPr/>
        </p:nvSpPr>
        <p:spPr>
          <a:xfrm>
            <a:off x="1547640" y="5950080"/>
            <a:ext cx="72072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8"/>
          <p:cNvSpPr txBox="1"/>
          <p:nvPr/>
        </p:nvSpPr>
        <p:spPr>
          <a:xfrm>
            <a:off x="324000" y="5950080"/>
            <a:ext cx="6490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d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4796"/>
              <a:gd name="adj2" fmla="val 79375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80808"/>
                </a:solidFill>
                <a:latin typeface="Georgia"/>
              </a:rPr>
              <a:t>W życiu codziennym używamy często jednostek objętości, określających pojemność np.: jeden litr – litr ojelu, </a:t>
            </a:r>
            <a:br>
              <a:rPr sz="1800"/>
            </a:br>
            <a:r>
              <a:rPr b="0" lang="pl-PL" sz="1800" spc="-1" strike="noStrike">
                <a:solidFill>
                  <a:srgbClr val="080808"/>
                </a:solidFill>
                <a:latin typeface="Georgia"/>
              </a:rPr>
              <a:t>litr mleka, dwa i pół litra s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4" descr="ANd9GcQelPDdLwEEmXJWyYRpOG1b00wgP891o_LmpaI_X9n-VutDIor1zg"/>
          <p:cNvPicPr/>
          <p:nvPr/>
        </p:nvPicPr>
        <p:blipFill>
          <a:blip r:embed="rId1"/>
          <a:srcRect l="32153" t="0" r="29400" b="0"/>
          <a:stretch/>
        </p:blipFill>
        <p:spPr>
          <a:xfrm>
            <a:off x="3276720" y="2924280"/>
            <a:ext cx="1135080" cy="3011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5" descr="ANd9GcQc9wkDDUiMqdU4T-t68xXtPKSi20MEHEsiHXhVOT3Pr50hXSR_XtkWGgxz"/>
          <p:cNvPicPr/>
          <p:nvPr/>
        </p:nvPicPr>
        <p:blipFill>
          <a:blip r:embed="rId2"/>
          <a:srcRect l="19200" t="0" r="23417" b="0"/>
          <a:stretch/>
        </p:blipFill>
        <p:spPr>
          <a:xfrm>
            <a:off x="5219640" y="2203560"/>
            <a:ext cx="1446120" cy="2520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6" descr="coca-cola-2-liter-botle"/>
          <p:cNvPicPr/>
          <p:nvPr/>
        </p:nvPicPr>
        <p:blipFill>
          <a:blip r:embed="rId3"/>
          <a:stretch/>
        </p:blipFill>
        <p:spPr>
          <a:xfrm>
            <a:off x="7216920" y="1700280"/>
            <a:ext cx="1581120" cy="4178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7" descr="cappy-sok-pomaraczowy-1l-butelka"/>
          <p:cNvPicPr/>
          <p:nvPr/>
        </p:nvPicPr>
        <p:blipFill>
          <a:blip r:embed="rId4"/>
          <a:srcRect l="27942" t="0" r="32552" b="0"/>
          <a:stretch/>
        </p:blipFill>
        <p:spPr>
          <a:xfrm>
            <a:off x="684360" y="2997360"/>
            <a:ext cx="1223640" cy="3097080"/>
          </a:xfrm>
          <a:prstGeom prst="rect">
            <a:avLst/>
          </a:prstGeom>
          <a:ln w="0">
            <a:noFill/>
          </a:ln>
        </p:spPr>
      </p:pic>
      <p:grpSp>
        <p:nvGrpSpPr>
          <p:cNvPr id="231" name="AutoShape 138"/>
          <p:cNvGrpSpPr/>
          <p:nvPr/>
        </p:nvGrpSpPr>
        <p:grpSpPr>
          <a:xfrm>
            <a:off x="2779560" y="5767560"/>
            <a:ext cx="2000520" cy="914400"/>
            <a:chOff x="2779560" y="5767560"/>
            <a:chExt cx="2000520" cy="914400"/>
          </a:xfrm>
        </p:grpSpPr>
        <p:pic>
          <p:nvPicPr>
            <p:cNvPr id="232" name="AutoShape 138" descr=""/>
            <p:cNvPicPr/>
            <p:nvPr/>
          </p:nvPicPr>
          <p:blipFill>
            <a:blip r:embed="rId5"/>
            <a:stretch/>
          </p:blipFill>
          <p:spPr>
            <a:xfrm>
              <a:off x="2779560" y="5767560"/>
              <a:ext cx="200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941560" y="5904000"/>
              <a:ext cx="172584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OLEJ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139"/>
          <p:cNvGrpSpPr/>
          <p:nvPr/>
        </p:nvGrpSpPr>
        <p:grpSpPr>
          <a:xfrm>
            <a:off x="262080" y="5913360"/>
            <a:ext cx="1993680" cy="914400"/>
            <a:chOff x="262080" y="5913360"/>
            <a:chExt cx="1993680" cy="914400"/>
          </a:xfrm>
        </p:grpSpPr>
        <p:pic>
          <p:nvPicPr>
            <p:cNvPr id="235" name="AutoShape 139" descr=""/>
            <p:cNvPicPr/>
            <p:nvPr/>
          </p:nvPicPr>
          <p:blipFill>
            <a:blip r:embed="rId6"/>
            <a:stretch/>
          </p:blipFill>
          <p:spPr>
            <a:xfrm>
              <a:off x="262080" y="5913360"/>
              <a:ext cx="199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22280" y="604836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SOK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40"/>
          <p:cNvGrpSpPr/>
          <p:nvPr/>
        </p:nvGrpSpPr>
        <p:grpSpPr>
          <a:xfrm>
            <a:off x="4943520" y="4548240"/>
            <a:ext cx="1993680" cy="914400"/>
            <a:chOff x="4943520" y="4548240"/>
            <a:chExt cx="1993680" cy="914400"/>
          </a:xfrm>
        </p:grpSpPr>
        <p:pic>
          <p:nvPicPr>
            <p:cNvPr id="238" name="AutoShape 140" descr=""/>
            <p:cNvPicPr/>
            <p:nvPr/>
          </p:nvPicPr>
          <p:blipFill>
            <a:blip r:embed="rId7"/>
            <a:stretch/>
          </p:blipFill>
          <p:spPr>
            <a:xfrm>
              <a:off x="4943520" y="4548240"/>
              <a:ext cx="199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102280" y="468000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MLEKO 1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41"/>
          <p:cNvGrpSpPr/>
          <p:nvPr/>
        </p:nvGrpSpPr>
        <p:grpSpPr>
          <a:xfrm>
            <a:off x="7034040" y="5840280"/>
            <a:ext cx="2013120" cy="914400"/>
            <a:chOff x="7034040" y="5840280"/>
            <a:chExt cx="2013120" cy="914400"/>
          </a:xfrm>
        </p:grpSpPr>
        <p:pic>
          <p:nvPicPr>
            <p:cNvPr id="241" name="AutoShape 141" descr=""/>
            <p:cNvPicPr/>
            <p:nvPr/>
          </p:nvPicPr>
          <p:blipFill>
            <a:blip r:embed="rId8"/>
            <a:stretch/>
          </p:blipFill>
          <p:spPr>
            <a:xfrm>
              <a:off x="7034040" y="5840280"/>
              <a:ext cx="2013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191360" y="5975280"/>
              <a:ext cx="172548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1780c7"/>
                  </a:solidFill>
                  <a:latin typeface="Georgia"/>
                </a:rPr>
                <a:t>Coca-Cola 2,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2476"/>
              <a:gd name="adj2" fmla="val 91124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litr równa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decymetrowi sześcienne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cappy-sok-pomaraczowy-1l-butelka"/>
          <p:cNvPicPr/>
          <p:nvPr/>
        </p:nvPicPr>
        <p:blipFill>
          <a:blip r:embed="rId1"/>
          <a:srcRect l="27942" t="0" r="32552" b="0"/>
          <a:stretch/>
        </p:blipFill>
        <p:spPr>
          <a:xfrm>
            <a:off x="2556000" y="2924280"/>
            <a:ext cx="1224000" cy="3097080"/>
          </a:xfrm>
          <a:prstGeom prst="rect">
            <a:avLst/>
          </a:prstGeom>
          <a:ln w="0">
            <a:noFill/>
          </a:ln>
        </p:spPr>
      </p:pic>
      <p:pic>
        <p:nvPicPr>
          <p:cNvPr id="246" name="AutoShape 9" descr=""/>
          <p:cNvPicPr/>
          <p:nvPr/>
        </p:nvPicPr>
        <p:blipFill>
          <a:blip r:embed="rId2"/>
          <a:stretch/>
        </p:blipFill>
        <p:spPr>
          <a:xfrm>
            <a:off x="334800" y="4327560"/>
            <a:ext cx="1994040" cy="914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5651640" y="3789360"/>
            <a:ext cx="2016000" cy="201600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13" descr=""/>
          <p:cNvPicPr/>
          <p:nvPr/>
        </p:nvPicPr>
        <p:blipFill>
          <a:blip r:embed="rId3"/>
          <a:stretch/>
        </p:blipFill>
        <p:spPr>
          <a:xfrm>
            <a:off x="4029120" y="4048200"/>
            <a:ext cx="1238040" cy="1457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4"/>
          <p:cNvSpPr/>
          <p:nvPr/>
        </p:nvSpPr>
        <p:spPr>
          <a:xfrm>
            <a:off x="5796000" y="602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1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596360" y="43657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443640" y="3392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21964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Arial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5076720" y="1628640"/>
            <a:ext cx="3672000" cy="1008360"/>
          </a:xfrm>
          <a:prstGeom prst="wedgeRectCallout">
            <a:avLst>
              <a:gd name="adj1" fmla="val -42388"/>
              <a:gd name="adj2" fmla="val 88898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Zawartość butelki o pojemności 1 lit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możemy przelać do sześcianu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 polu 1 dm</a:t>
            </a:r>
            <a:r>
              <a:rPr b="0" lang="pl-PL" sz="16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5651640" y="3789360"/>
            <a:ext cx="2016000" cy="201600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79280" y="1268280"/>
            <a:ext cx="4105440" cy="1297080"/>
          </a:xfrm>
          <a:prstGeom prst="wedgeRectCallout">
            <a:avLst>
              <a:gd name="adj1" fmla="val -1777"/>
              <a:gd name="adj2" fmla="val 72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Do określania większej ilości płynów używa się jednostki </a:t>
            </a:r>
            <a:r>
              <a:rPr b="1" lang="pl-PL" sz="1800" spc="-1" strike="noStrike">
                <a:solidFill>
                  <a:srgbClr val="ffffff"/>
                </a:solidFill>
                <a:latin typeface="Georgia"/>
              </a:rPr>
              <a:t>hektolitr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, np.: do określenia pojemności cyster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 Box 8" descr=""/>
          <p:cNvPicPr/>
          <p:nvPr/>
        </p:nvPicPr>
        <p:blipFill>
          <a:blip r:embed="rId1"/>
          <a:stretch/>
        </p:blipFill>
        <p:spPr>
          <a:xfrm>
            <a:off x="2932200" y="4968720"/>
            <a:ext cx="3944880" cy="1140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1da66615acaeb8665c09146e0a2a531d"/>
          <p:cNvPicPr/>
          <p:nvPr/>
        </p:nvPicPr>
        <p:blipFill>
          <a:blip r:embed="rId2"/>
          <a:stretch/>
        </p:blipFill>
        <p:spPr>
          <a:xfrm>
            <a:off x="324000" y="2997360"/>
            <a:ext cx="5432400" cy="1724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autocysterna_lpg"/>
          <p:cNvPicPr/>
          <p:nvPr/>
        </p:nvPicPr>
        <p:blipFill>
          <a:blip r:embed="rId3"/>
          <a:stretch/>
        </p:blipFill>
        <p:spPr>
          <a:xfrm>
            <a:off x="5003640" y="1268280"/>
            <a:ext cx="3600720" cy="18986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6084720" y="3716280"/>
            <a:ext cx="2843280" cy="792360"/>
          </a:xfrm>
          <a:prstGeom prst="wedgeRectCallout">
            <a:avLst>
              <a:gd name="adj1" fmla="val -59884"/>
              <a:gd name="adj2" fmla="val 12174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hektolit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to 100 litr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6156360" y="5877000"/>
            <a:ext cx="2843280" cy="792000"/>
          </a:xfrm>
          <a:prstGeom prst="wedgeRectCallout">
            <a:avLst>
              <a:gd name="adj1" fmla="val -81601"/>
              <a:gd name="adj2" fmla="val 611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na setna hektoli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Text Box 16" descr=""/>
          <p:cNvPicPr/>
          <p:nvPr/>
        </p:nvPicPr>
        <p:blipFill>
          <a:blip r:embed="rId4"/>
          <a:stretch/>
        </p:blipFill>
        <p:spPr>
          <a:xfrm>
            <a:off x="1871640" y="5761080"/>
            <a:ext cx="392580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Jednostki pojemnośc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179280" y="1125360"/>
            <a:ext cx="4392720" cy="1440000"/>
          </a:xfrm>
          <a:prstGeom prst="wedgeRectCallout">
            <a:avLst>
              <a:gd name="adj1" fmla="val -1777"/>
              <a:gd name="adj2" fmla="val 72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Do określenia małej pojemności używa się jednostki mililitr, stosuje się ją np.: do określenia pojemności pasty do zębów, lekarstw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Text Box 4" descr=""/>
          <p:cNvPicPr/>
          <p:nvPr/>
        </p:nvPicPr>
        <p:blipFill>
          <a:blip r:embed="rId1"/>
          <a:stretch/>
        </p:blipFill>
        <p:spPr>
          <a:xfrm>
            <a:off x="2932200" y="4968720"/>
            <a:ext cx="3944880" cy="11401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5"/>
          <p:cNvSpPr/>
          <p:nvPr/>
        </p:nvSpPr>
        <p:spPr>
          <a:xfrm>
            <a:off x="6084720" y="3716280"/>
            <a:ext cx="2843280" cy="792360"/>
          </a:xfrm>
          <a:prstGeom prst="wedgeRectCallout">
            <a:avLst>
              <a:gd name="adj1" fmla="val -59884"/>
              <a:gd name="adj2" fmla="val 12174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en 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000 mililitr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6156360" y="5877000"/>
            <a:ext cx="2843280" cy="792000"/>
          </a:xfrm>
          <a:prstGeom prst="wedgeRectCallout">
            <a:avLst>
              <a:gd name="adj1" fmla="val -72893"/>
              <a:gd name="adj2" fmla="val -5912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1 mililitr równa się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jedna tysięczna l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 Box 7" descr=""/>
          <p:cNvPicPr/>
          <p:nvPr/>
        </p:nvPicPr>
        <p:blipFill>
          <a:blip r:embed="rId2"/>
          <a:stretch/>
        </p:blipFill>
        <p:spPr>
          <a:xfrm>
            <a:off x="1871640" y="5761080"/>
            <a:ext cx="3925800" cy="1139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ANd9GcRuYteeFJlG20MQt0hBtuk-VY3jzyJIeshf1FfVERSRwbIDMig_Iw"/>
          <p:cNvPicPr/>
          <p:nvPr/>
        </p:nvPicPr>
        <p:blipFill>
          <a:blip r:embed="rId3"/>
          <a:srcRect l="31413" t="0" r="28557" b="0"/>
          <a:stretch/>
        </p:blipFill>
        <p:spPr>
          <a:xfrm>
            <a:off x="755640" y="2997360"/>
            <a:ext cx="852480" cy="213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eurowet-c-a-p-krople-do-oczu-i-nosa-dla-golebi-10ml"/>
          <p:cNvPicPr/>
          <p:nvPr/>
        </p:nvPicPr>
        <p:blipFill>
          <a:blip r:embed="rId4"/>
          <a:srcRect l="33279" t="0" r="30784" b="7710"/>
          <a:stretch/>
        </p:blipFill>
        <p:spPr>
          <a:xfrm>
            <a:off x="4572000" y="1341360"/>
            <a:ext cx="1314360" cy="337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780c7"/>
                </a:solidFill>
                <a:latin typeface="Trebuchet MS"/>
              </a:rPr>
              <a:t>Ćwiczenia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3419640" y="1628640"/>
            <a:ext cx="2842920" cy="792360"/>
          </a:xfrm>
          <a:prstGeom prst="wedgeRectCallout">
            <a:avLst>
              <a:gd name="adj1" fmla="val -61000"/>
              <a:gd name="adj2" fmla="val 98296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to litrów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1692360" y="4581360"/>
            <a:ext cx="2843280" cy="792360"/>
          </a:xfrm>
          <a:prstGeom prst="wedgeRectCallout">
            <a:avLst>
              <a:gd name="adj1" fmla="val 66972"/>
              <a:gd name="adj2" fmla="val 1012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le to dm</a:t>
            </a:r>
            <a:r>
              <a:rPr b="0" lang="pl-PL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116000" y="1557360"/>
            <a:ext cx="2664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d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1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3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5435640" y="4581360"/>
            <a:ext cx="2592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,2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m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7T13:38:39Z</dcterms:modified>
  <cp:revision>110</cp:revision>
  <dc:subject/>
  <dc:title>Prezentacja programu PowerPoint</dc:title>
</cp:coreProperties>
</file>